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0B5-4964-47A1-9A9A-92D4B8CE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65D-C110-4E5A-A504-3314F81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557-C58F-460A-BDA7-E4C6F311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BA8-812B-4955-BDBC-A2248D0B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C38-8A39-496C-B2BC-D1481C2D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C9A-55AA-4E67-8CA9-2E941F98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406-DD35-4C43-B04E-33C60EC5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61A-9AC2-4447-82B8-0C22BE5D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343-74BC-450F-B680-5032C611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9B5-0C93-4BBE-AD70-40B8398A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BAE-5747-4B23-B82A-8783B80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67F-F72A-4BF9-B94B-E1304E59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660-812C-465D-9A11-B3F17747C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280" y="1123560"/>
            <a:ext cx="8396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3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дно чудесно място зна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ърцето ми копней за там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ушам гласа на Бога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8760" y="2041560"/>
            <a:ext cx="8469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ам запознах се с Бога мой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Той приема ме за Св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Аз вяра черпя и покой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1640" y="1857240"/>
            <a:ext cx="810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ла и ти, послушай с нас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ова от милия Исус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одкрепяй се от Словото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6:00:52Z</dcterms:created>
  <dc:creator>TrifonTrifonow</dc:creator>
  <dc:description/>
  <dc:language>en-US</dc:language>
  <cp:lastModifiedBy>TrifonTrifonow</cp:lastModifiedBy>
  <dcterms:modified xsi:type="dcterms:W3CDTF">2005-11-21T12:31:52Z</dcterms:modified>
  <cp:revision>6</cp:revision>
  <dc:subject/>
  <dc:title>Slide 1</dc:title>
</cp:coreProperties>
</file>